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6C98-D33C-4384-814B-20504FC3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A9B1-9173-4335-9844-AC4476A0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2E7E-0453-4C8C-A866-38CDC5B4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156D-D539-488D-8055-C85EA768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485F3-4EE8-4F50-AFDD-73D701D4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DA115-D250-4183-A529-E54B36DB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CE161-97F1-4E5C-B60F-8BF3F6A7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97CDB-C7B9-4D8F-8D81-C79ABDC7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E0F45-650F-4EE7-BD38-3E05AC74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BB316-C483-49F2-B22D-97AAA20E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70D05-487E-478D-BEAB-AECC1D10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CD4-EC61-4ED8-96E3-12BC329B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1A1B6-B03E-4897-B7FF-1699B780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2046F-554B-4F65-BCEC-F7FC30AE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161B4-E96A-4647-A108-5F172A93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AAC7C-AC16-4D94-A79B-7CDDC346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7AE79-38B1-4431-A26B-00FE94FA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D78AC-7D04-40C1-9D1A-1481F331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F1FB9-D334-4FD7-9CF5-42D6D694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3487D-2E33-4134-A45D-0EADF168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C8F41-2F74-4908-B744-089EA50A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E1245-AF39-49CE-8D3E-40E924E5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C0F0-6B84-4BD9-88D3-9C079AB0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E1D42-882B-402E-9067-D7ACFDA1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BA85F-7E94-4BEA-8884-B18659C1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41639-76B9-4C88-9224-A4D4916A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DC943-2109-4521-9D62-DEC92074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367FE-AC90-46E7-8283-0F9189A0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6CB94-6D6C-48E6-A586-0B9DAB54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47112-964E-48CF-91BF-8CFF3002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E16E13-87AA-4A81-9A36-4BACD2D5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9ED8FC-8DF0-4893-82B5-F2AF3152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2735D1-A998-4B66-9EA2-672CD403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C166-B034-4947-8A41-5422CA40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66C7CD-BF70-4D87-A2EB-4F15EC09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DECE26-EC37-4B91-81A9-0AC7FA16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9EF1C4-3463-4499-8212-A687DEC7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6B4019-98D6-43CC-8813-3C61C43F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CB7016-8838-41AF-AD0C-2C3B94E9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7A2961-F36C-4655-8CE7-3018444C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ABFCF1-6B17-420D-9101-8A9831C7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B7DA29-6C2E-49F2-9BE6-7F79B15B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202F32-9B7F-4B69-B7DF-59614BD9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3F11-0CB5-451F-935A-9C7E54BB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32A0-637A-48BD-9914-92858200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5F8-AB4C-4C1D-A719-DF00DFA6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34C8-B9C0-45E9-844D-0BB2B5F7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1C61-6744-4BEB-A9B8-0EDC3872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C9B6-66D7-4BB9-BB3F-E29D91E876B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23AA-3851-45A4-A752-4FDCB2AC6B8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5FEB-36A8-4F19-9EE6-2216ECD9363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C539-C1B1-4777-8CF0-15F1329A0DD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удовлетворенность условиями деятель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служебной эт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трудового законодатель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граниченность рессур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личия в целях, ценностях, воспитан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озависимость зада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огласитель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нападения (четкая аргументаци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разубежд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отсроч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подробного анализа (если сторона готовы к сотрудничеству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ктивного соучастия (если факт соучастия важнее чем результат)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ерсонализации (с наиболее конфликтными личностям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менение конфликтогено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ямое негатив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нисходитель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нторск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честность, неискреннос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ушения этических и этикетных нор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рессивное поведе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Конфликтная ситуация + инциден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С – объекты и субъекты конфликта + разногласия в позициях, целях, интересов и т.д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рансакц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единица взаимодействия партнеров по общению, сопровождающаяся заданием их позиц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Основные позици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дитель – требует, оценивает, осуждает, одобряет, руководит, учит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зрослый – работает с информацией, анализирует, рассуждает, аргументиру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бенок (Дитя) – проявляет чувства (обиды, вины..), шалит, своенравен, извиняется в ответ на замечания, задает вопросы : «почему я?», «За что меня наказали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горитм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48320" y="1600200"/>
          <a:ext cx="4038480" cy="19000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4076640"/>
          <a:ext cx="4038480" cy="204948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Line 57"/>
          <p:cNvSpPr/>
          <p:nvPr/>
        </p:nvSpPr>
        <p:spPr>
          <a:xfrm flipV="1">
            <a:off x="5003640" y="2349360"/>
            <a:ext cx="316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8"/>
          <p:cNvSpPr/>
          <p:nvPr/>
        </p:nvSpPr>
        <p:spPr>
          <a:xfrm flipH="1">
            <a:off x="5076720" y="2492280"/>
            <a:ext cx="316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5003640" y="573408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60"/>
          <p:cNvSpPr/>
          <p:nvPr/>
        </p:nvSpPr>
        <p:spPr>
          <a:xfrm flipH="1">
            <a:off x="5076360" y="4292640"/>
            <a:ext cx="324036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00000" y="2998800"/>
          <a:ext cx="2303640" cy="316548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иц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Line 93"/>
          <p:cNvSpPr/>
          <p:nvPr/>
        </p:nvSpPr>
        <p:spPr>
          <a:xfrm>
            <a:off x="1258920" y="393372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4"/>
          <p:cNvSpPr/>
          <p:nvPr/>
        </p:nvSpPr>
        <p:spPr>
          <a:xfrm flipH="1">
            <a:off x="1403280" y="3860640"/>
            <a:ext cx="1440000" cy="18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енаправленное, обусловленное объективными законами воздействие на динамику в интересах развития или разрушения той социальной системы, к которой имеет отношение данны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вление конфликтами включает следующие виды деятельнос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57200" y="1197000"/>
          <a:ext cx="8229600" cy="5661000"/>
        </p:xfrm>
        <a:graphic>
          <a:graphicData uri="http://schemas.openxmlformats.org/drawingml/2006/table">
            <a:tbl>
              <a:tblPr/>
              <a:tblGrid>
                <a:gridCol w="442800"/>
                <a:gridCol w="2880000"/>
                <a:gridCol w="3097080"/>
                <a:gridCol w="18097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управл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з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и разв.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озирование, 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ьная – 92%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- 46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к- 5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ер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е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ада -20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ешение – совместная деятельность  участников, направленная на прекращение противодействия и решение проблемы, приведшей к столкновен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егулирование – принимает участие третья сторо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тухание  - истощение ресурсов, потеря мотива, переориентация мотив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транение – ликвидация основных структурных эле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растание в друго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тка Томаса-Килмен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274680" y="17604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4"/>
          <p:cNvSpPr/>
          <p:nvPr/>
        </p:nvSpPr>
        <p:spPr>
          <a:xfrm>
            <a:off x="250920" y="386064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ло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250920" y="198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2700360" y="2852640"/>
            <a:ext cx="208764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роми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219640" y="386064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посо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5219640" y="1989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11280" y="5373720"/>
            <a:ext cx="7345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11280" y="544500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6012000" y="5445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м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956720" y="1916280"/>
            <a:ext cx="0" cy="324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8028000" y="1557360"/>
            <a:ext cx="720720" cy="13669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66920"/>
              <a:gd name="textAreaBottom" fmla="*/ 1332000 h 1366920"/>
            </a:gdLst>
            <a:ahLst/>
            <a:rect l="textAreaLeft" t="textAreaTop" r="textAreaRight" b="textAreaBottom"/>
            <a:pathLst>
              <a:path w="21600" h="40957">
                <a:moveTo>
                  <a:pt x="3600" y="0"/>
                </a:moveTo>
                <a:arcTo wR="3600" hR="3600" stAng="16200000" swAng="-5400000"/>
                <a:lnTo>
                  <a:pt x="0" y="37357"/>
                </a:lnTo>
                <a:arcTo wR="3600" hR="3600" stAng="10800000" swAng="-5400000"/>
                <a:lnTo>
                  <a:pt x="18000" y="40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8028000" y="3860640"/>
            <a:ext cx="720720" cy="13464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40342">
                <a:moveTo>
                  <a:pt x="3600" y="0"/>
                </a:moveTo>
                <a:arcTo wR="3600" hR="3600" stAng="16200000" swAng="-5400000"/>
                <a:lnTo>
                  <a:pt x="0" y="36742"/>
                </a:lnTo>
                <a:arcTo wR="3600" hR="3600" stAng="10800000" swAng="-5400000"/>
                <a:lnTo>
                  <a:pt x="18000" y="4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и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 ее помощью можно наметить стратегию, этапы и способы разрешения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блема конфликт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инная причина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ействительные участни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линные потребности и опасения сторо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жличностные отношения участников до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ношение к конфликту лиц, не участвующих, но заинтересованных в положительном его разрешен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гресс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алобщ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разгневанный ребенок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ксимал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чун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тайный мст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ложный альтруист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хронический обвин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551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197000"/>
          <a:ext cx="9123480" cy="5661000"/>
        </p:xfrm>
        <a:graphic>
          <a:graphicData uri="http://schemas.openxmlformats.org/drawingml/2006/table">
            <a:tbl>
              <a:tblPr/>
              <a:tblGrid>
                <a:gridCol w="3111480"/>
                <a:gridCol w="6012000"/>
              </a:tblGrid>
              <a:tr h="4348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е 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квидация дефицита информации в конфликте; исключение из информационного поля ложной, искаженной информации; устранение слухов и т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общения между субъектами конфликтного взаимодействия и их сторонниками; обеспечение эффективного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-психолог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неформальными лидерами и микрогруппами, снижение социальной напряженности и укрепления социально-психологического климата в коллекти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е кадровых вопросов; использование методов поощрения и наказания; изменение условий взаимодействия сотрудников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Заголовок 2" descr=""/>
          <p:cNvPicPr/>
          <p:nvPr/>
        </p:nvPicPr>
        <p:blipFill>
          <a:blip r:embed="rId1"/>
          <a:stretch/>
        </p:blipFill>
        <p:spPr>
          <a:xfrm>
            <a:off x="249120" y="-189000"/>
            <a:ext cx="84502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реальной практике по управлению конфликтами важно учитывать предпосылки, формы и способы их разрешени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статочная зрелость конфли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требность субъектов конфликта в его разрешен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личие необходимых средств и ресурсов для разрешения конфли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6007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ничтожение или полное подчинение одной из сторон (уступка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гласование интересов и позиций конфликтующих сторон на новой основе (компромисс, консенсус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ное примирение конфликтующих сторон (уход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вод борьбы в русло сотрудничества по совместному преодолению противоречий (сотрудничество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дминистративный (увольнение, перевод на другую работу, решение суда и т. п.)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едагогический (беседа, убеждение, просьба, разъяснение и т. п.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горитм деятельности руководителя в процессе управления конфликтами зависит от многих факторов — содержания самого конфликта, условий его возникновения и развития и многих други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1974960"/>
          <a:ext cx="9144000" cy="4884480"/>
        </p:xfrm>
        <a:graphic>
          <a:graphicData uri="http://schemas.openxmlformats.org/drawingml/2006/table">
            <a:tbl>
              <a:tblPr/>
              <a:tblGrid>
                <a:gridCol w="858960"/>
                <a:gridCol w="3305160"/>
                <a:gridCol w="4979880"/>
              </a:tblGrid>
              <a:tr h="503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(методы)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причин возникновения конфли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, анализ результатов деятельности; беседа; изучение документов; биографический метод, то есть изучение биографических данных участников конфликта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раничение числа участ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лидерами в микрогруппах; перераспределение функциональных обязанностей; поощрение или наказание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ый анализ конфликта с помощью экспе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экспертов; привлечение медиатора, психолога, переговорный процесс (медиация)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ятие ре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е методы; педагогические мет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ивные мотив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иции сторо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в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роцессе управленческой деятельности по разрешению конфликтов и в выборе алгоритма такой деятельности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для руководител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учитывать следующие принципы управления конфлик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ивности и адекватности оценки конфлик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кретно-ситуационного подход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с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мократического воздействия, опоры на общественное мнени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мплексного использования способов и приемов воздейств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844640"/>
          <a:ext cx="9144000" cy="4822920"/>
        </p:xfrm>
        <a:graphic>
          <a:graphicData uri="http://schemas.openxmlformats.org/drawingml/2006/table">
            <a:tbl>
              <a:tblPr/>
              <a:tblGrid>
                <a:gridCol w="4908600"/>
                <a:gridCol w="4235400"/>
              </a:tblGrid>
              <a:tr h="395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ороннее суждение руководителя о подчиненных (как правило, только с точки зрения того, как они выполняют его указ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ет понять мотивы конфликтующих и оценить динамику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ы руководителя в конфликте как члена коллектива и как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связанные с субъективной оценкой предмета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емление как можно быстрее погасить конфли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часто приводящие к наказанию «правых» и «виноват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личностные отношения с конфликтующими (симпатии, антипатии дружба и т. 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проявляющиеся в предвзятом отношении к одному из участников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274680" y="85680"/>
            <a:ext cx="84121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44600" y="3352680"/>
            <a:ext cx="8169120" cy="18097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Формулы конфлик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520"/>
            <a:ext cx="850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огенов (КФГ)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оген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слова, действия (или отсутствие действий), которые могут привести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КФГ2 &gt; КФГ1(, КФГ3&gt; КФГ2 и т. д. (Закон эскалации конфликтогенов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91320" cy="1219320"/>
          </a:xfrm>
          <a:prstGeom prst="rect">
            <a:avLst/>
          </a:prstGeom>
          <a:ln w="0">
            <a:noFill/>
          </a:ln>
        </p:spPr>
      </p:pic>
      <p:sp>
        <p:nvSpPr>
          <p:cNvPr id="252" name="Скругленный прямоугольник 4"/>
          <p:cNvSpPr/>
          <p:nvPr/>
        </p:nvSpPr>
        <p:spPr>
          <a:xfrm>
            <a:off x="826920" y="2781360"/>
            <a:ext cx="7345440" cy="934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ФГ1      КФГ2      КФГ3     …      К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Прямая со стрелкой 6"/>
          <p:cNvCxnSpPr/>
          <p:nvPr/>
        </p:nvCxnSpPr>
        <p:spPr>
          <a:xfrm>
            <a:off x="2195280" y="3249360"/>
            <a:ext cx="432360" cy="1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54" name="Стрелка вправо 7"/>
          <p:cNvSpPr/>
          <p:nvPr/>
        </p:nvSpPr>
        <p:spPr>
          <a:xfrm>
            <a:off x="2268360" y="3176640"/>
            <a:ext cx="432000" cy="10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399564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74668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6754680" y="3141720"/>
            <a:ext cx="4813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1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употребляйте конфликтоге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2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отвечайте конфликтогеном на конфликтоге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отметить, что по наблюдениям специалистов, 80 % конфликтов возникает помимо желания их участников и по вышеприведенной формул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ной ситуации (КС) и инцидента (И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онфликтная ситуа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накопившиеся противоречия, связанные с деятельностью субъектов социального взаимодействия и создающие почву для реального противоборства между ни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нцидент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стечение обстоятельств, являющихся поводом для конфлик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  <p:sp>
        <p:nvSpPr>
          <p:cNvPr id="262" name="Скругленный прямоугольник 3"/>
          <p:cNvSpPr/>
          <p:nvPr/>
        </p:nvSpPr>
        <p:spPr>
          <a:xfrm>
            <a:off x="2268360" y="2781360"/>
            <a:ext cx="4391280" cy="718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 + И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4920" y="692280"/>
          <a:ext cx="9109080" cy="6165720"/>
        </p:xfrm>
        <a:graphic>
          <a:graphicData uri="http://schemas.openxmlformats.org/drawingml/2006/table">
            <a:tbl>
              <a:tblPr/>
              <a:tblGrid>
                <a:gridCol w="4216320"/>
                <a:gridCol w="4892760"/>
              </a:tblGrid>
              <a:tr h="453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конфликтной ситу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бросовестное исполн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трудовой дисциплины Брак в рабо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стиль 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ки в подборе и расстановке кадров Ошибки в организации контроля Просчеты в планировании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адекватное представление о конкретных ситуац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авильные оценки, суждения о действиях других субъектов социального взаимодействия Ошибки в выводах относительно конкретных ситу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о-психологические особенност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принятых в социальной группе правил взаимоотношений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ая профессиональн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к в работе Неспособность принять адекватное реш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Прямоугольник 7"/>
          <p:cNvSpPr/>
          <p:nvPr/>
        </p:nvSpPr>
        <p:spPr>
          <a:xfrm>
            <a:off x="2063880" y="874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конфликтных ситуа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нескольких конфликтных ситуаций (КС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&gt; 2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мма двух или более конфликтных ситуаций приводит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4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6"/>
          <p:cNvSpPr/>
          <p:nvPr/>
        </p:nvSpPr>
        <p:spPr>
          <a:xfrm>
            <a:off x="1692360" y="2637000"/>
            <a:ext cx="5400720" cy="720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1 + КС2 + ... + КС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такое отношение между субъектами социального взаимодействия, которое характеризуется их противоборством на основе противоположно направленных мотивов (потребностей, интересов, целей, идеалов, убеждений) или суждений (мнений, взглядов, оценок и т. п.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составу участников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утри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ду личностью и групп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группов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длительности и напряженност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рные быстротекущ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трые длитель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вял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быстр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61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 зависимости от сферы проявлен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оном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де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мей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социальных последстви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едме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еалистичные (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реалистичные (бес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ичи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стны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ичины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явления, события, факты, ситуации, которые предшествуют конфликту и, при определенных условиях деятельности субъектов социального взаимодействия, вызывают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экономические и полит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демограф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ндивиду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37:26Z</dcterms:created>
  <dc:creator>User</dc:creator>
  <dc:description/>
  <dc:language>en-US</dc:language>
  <cp:lastModifiedBy>Iren</cp:lastModifiedBy>
  <dcterms:modified xsi:type="dcterms:W3CDTF">2020-04-09T10:58:29Z</dcterms:modified>
  <cp:revision>20</cp:revision>
  <dc:subject/>
  <dc:title>Конфликты и пути их разрешения.</dc:title>
</cp:coreProperties>
</file>